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CFC3-4589-4F56-B064-C131F960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ctivity can lead into a discussion about Expected Progeny Differences (EPDs). EPDs use very complex theoretical probabilities to predict the outcome of offspring based on genetic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253A-C29C-4850-8656-58BEFB08D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BEC8-E9EB-415C-915A-FB8660EAD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3446-098D-43F3-A4E5-7A5C674B6EF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FF1A-B922-4033-876E-B33FC3D1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F4D5-D88A-4B37-BCCC-94B821CC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16F9-1ACE-4E05-85BF-0DC8F590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FFC9-7385-46D1-8C5E-80C7298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8701-E3B3-46D2-90BF-06FACEC1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CDE7A-A0B7-4E8D-BA9A-D2EC1FB0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2F497-1C41-4DA2-88F3-D7B0851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CC031-3C16-4A9A-ADCF-5E3ADFAB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81598-9D9B-4609-9DEA-B5789F5B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B19E3-8488-4A1B-B4AD-23742502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3FA1-037F-44FF-8ED9-92940CF5CF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6D9DB-30A7-4493-A561-AF503250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DEEDB-6421-4F0C-A0D9-F2527CB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AC22E-A528-4B14-8868-02859349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E77D5-498A-4BD0-8263-48040811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98617-19BA-4ABF-B266-4480A81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F876F-D7C5-4D37-AC8D-6E417B6B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E6033-6AC1-49A8-BB4A-6ECEF1E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B470D-F08B-4713-9DF4-1A82892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A405-EAE4-48E3-B823-51F9FEA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05B2B-6D42-41C6-B377-BCF8378C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3709-4EBF-49B4-8F34-37C8E7BCD4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62BE9-AD17-4757-B764-581A37AF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BC304-BEE1-44A7-9BC1-AA45717F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FC02F-6418-401B-AD1B-D0FEE91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8DA52-486F-41F8-8107-F8E8372B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B6F6-F1D0-4101-BF15-8CF1824D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70B4B-7CC1-43F5-9218-5380EDFE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3ED5A-BD14-4140-81A7-D502139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57E51-B8A7-4AC8-A655-935E9276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7C7A1-98C8-4D41-BC15-9626CC9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364D3-64AD-4051-A65C-8A7FE93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3EE-2AC5-4A38-97B7-16FF81F84B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F96FD-F3AD-4455-9D3F-1C6C11C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9A1EA-D921-4164-9ACE-B5E41395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25C92-9D2C-4165-98D3-A43D7B68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B8DCF-914A-48E8-850E-957D7300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50080-840C-4E66-9B57-25DE5CDF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649C1-1ADD-4A9F-9772-CE2AAEC9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82268-D27C-4DA3-BF01-5FAF9B8C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07C79-F75F-47D1-9130-23DAEF22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26B4-43BD-40BD-8D7F-12A925A4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71E0-4727-4F58-9CAB-FD7F6CD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794-00D3-4174-9A6B-131C4936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4E008-4FA3-4C6F-B462-0C64F81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B84B5-F310-4AC1-85F8-CD70322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F8CFA-87EE-4C28-98D1-D0495E4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03C82-F853-4FE2-A320-0376800C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C5C97-B4CA-4ABC-80AC-87519F7B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CF1-FFB3-416A-A7E5-EE3B659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353-147E-4239-A9D1-D7EE156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19C-472C-4B7F-951A-856D1070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1C7-E31C-4185-A7F4-EBE4DD4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078-CBF6-46D8-8B8B-C76BCBE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F7FB-7788-4A32-925A-017634960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A13-E2BA-4910-B8D5-F539AB83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3FF-81DF-4087-89DA-19F53BE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7FA-47E6-4613-BF8A-84763469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057-2D1E-4740-976F-7C8BD006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5B1-E2A7-4893-AFCA-7C101D97E3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5D4B-BE9E-4C2E-9858-5221E2A2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7D0D-18AE-4A94-9D12-3E367C73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E6DA-8AA6-4A0E-9A94-F1A414B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02F7-4D78-4BF9-AF1E-EA13D29D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5E1C-D349-4A9A-9985-80F4E822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7920-53D4-465C-8BB1-ED66840FCF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CB3D-5DFF-40CB-82E3-13E6C91D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48F-698C-4A82-B51C-7F271504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1C8D-6FF9-4D49-A413-225F3FC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8D17-41ED-41A5-8147-2C361CA5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1122-7E58-40FB-8A24-8CB7B1BE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010-8DCD-45A2-8033-779EF483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D06-298F-4A55-B248-9A4DB219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9C28-9CDB-4FBE-AF34-A93C98D9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41CB-55D0-459A-A1EC-76BA3823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93D6-A7E2-4C08-ADB6-97FFD287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099D-C00C-4BE8-88E1-CFA2D4FCEF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584A-3BD0-45EE-BDFC-7D2AA8F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B367-6AE6-4DE0-996F-DE93360B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7B2C-46FB-40B9-937E-99AEDF64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7E88-6EF7-440B-96F1-0DD89F27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F864C-24A0-468D-98C3-10FB4E2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719C-1360-47B0-B83B-25E76A42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F82F-5D3B-4C82-AD33-BD32CBE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A91E6-1053-429B-9677-821294FB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69B5-4E90-4A01-968C-0E71CA67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8825-3347-49F1-81C7-F6F9A74F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0973-339D-4B4E-A0B1-1B3047A153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6138-6CA7-4FA0-83FD-A62307AF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0F6F-3D2A-4B92-98E8-8195455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556BC-C000-4FFE-BD78-CDB9910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B391-785D-4C3A-9509-31380A0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E2DF-7168-4B52-9E4D-D54B40F8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5C53-7977-45E4-B45C-9F47638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1EE3-6861-491B-B8A1-BDA41ED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9A6E-313A-4E57-A078-7F16D00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2671-2B05-4479-813C-A6A0378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A2F1B-F239-45F4-8C9A-1E28F7F5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D6CE-1B44-4C2D-AA63-5B6943CE3E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2109C-C8BE-431E-8FF0-2063A3C6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25A6-30DE-40E3-94A9-CD2404C9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B5E9-A21D-4A88-B674-86D09D8D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AE97-7477-4458-8294-C3EA091B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A56F-1881-4748-A114-E041798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F08FC-DCE6-4EC1-9D2C-58CA0EA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1F4E-665C-46BC-8501-88AB9CA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98F59-71E6-44A7-B839-1151863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B9A45-9539-4D41-A4B9-98611EA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DE87-7569-46E6-AE87-F9AFDE4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3049-DF9E-483F-B115-C7DB22FAF5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39E3-109F-4C46-8605-76419B3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DBFE-965C-49B3-A34D-CB5ECD43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0143-B2FD-4EE8-A7F6-0AAEC7B2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7967E-DDE3-48FD-87A0-885F8DD4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9B31-2B44-42FD-860A-804AD30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5CB98-EDA6-48FC-A86C-1A8AD953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60FAF-DB5E-464C-B7D4-4127ED7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E270-22B2-4A4E-AEC0-CFA78D95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62E3A-250B-4D8F-9A4C-12185256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2CB13-0BB5-4170-9ABB-4F9BA3E8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1A7A-B8B9-4AC3-BD60-58DCEDA68A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5A1B-55E5-48C2-BB7C-C531872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2A8CA-93D0-4EE1-8D72-7F4CCF0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AC3E4-5263-4863-B19F-8092859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33AB5-D944-4FCA-8DB3-29926DA8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BFF8-CC6F-43EF-AA72-D60FFBA4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9643-47A8-4640-90C2-7D6D7C03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CFB1-CD3B-467F-BF18-3B96B49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8B77B-1A2B-4650-8D14-7D43A0A8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8583-F798-4145-9097-1A3565C6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B9546-434E-4ED9-B32D-68B2476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93C9-1FE2-415B-A07C-38D4044D9E0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3087E-E78B-4218-BDF8-329F1864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1C9DA-CD5A-4C3E-BC19-C1B14B08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5D755-8AEB-43AB-906A-C957B19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65B68-48C8-4D7E-951A-1AA43D9F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79A95-9B2C-436F-AE36-CDF16FD0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D77A-A8E1-478B-BE74-686E7DE6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D6B3C-9CEF-4E50-9876-1269D98C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76D6-D44A-4A7C-BCA6-413CB22C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52E0D-5AA7-4683-86EA-075E079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72133-0581-4AD1-B8F0-101D269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ACB-23E0-4DCC-AF13-98E3E5F7607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8B9-3020-4F84-B3B6-7A98F4FB01E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1622-47CB-422D-B19C-C4A33711B86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4C3D-1C51-41CC-AFCB-9340F57B4E1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3FE-EF75-4A5B-A130-41B3F1BBF0F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6AC-F19E-428A-9ABC-6107EA437343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3595-80B9-44AE-97B0-A830C0D5C5D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18B6-9C76-4DEB-B92A-A3C2B206EA7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E998-93AF-4B54-A3E3-7C2191A192B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83C-7CFA-4756-B9AC-09621AC0033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869F-FF44-4664-94F7-98E30870D78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D37-BCF4-4105-AE64-8EB9DAB89F8F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11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refore, the theoretical probability is 2/8, which can be reduced to 1/4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 are different ways to say this: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25% (percentage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0.25 (decimal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1:4 (ratio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400 beef cows. Last winter you used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Money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CashCow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Awesom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BigBo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this fall will be sired by a son of CashCow. Express your answer as a ratio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4/12 reduced to 1/3. As a ratio, the answer is 1:3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100 beef cows. Last summer you used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Money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CashCow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Awesom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this spring will be sired by a son of MoneyMaker. Express your answer as a fraction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2/4 reduced to 1/2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flock of 500 ewes. Last fall you used the following ram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8 sons of #545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2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77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4 sons of #402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lamb this spring will be sired by a son of #402. Express your answer as a percentag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4/20 reduced to 1/5. As a percentage, the answer is 20%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dvanced Animal Science students use theoretical probabilities to predict simple genetic out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dvanced Animal Science—AN 4.4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genetic outcomes. (Analyzing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S.2.2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predict outcomes of simple events using given theoretical probabilities. (Comprehension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ere experimental probability relies on using actual data from an experiment, theoretical probability is determined by noting all the possible outcomes theoretically and determining the likelihood of the given outcom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formula for theoretical probability of an even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(event) = number of favorable outcomes/number of total outcom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: A bag contains 10 red marbles, 8 blue marbles, and 2 yellow marbles. Find the theoretical probability of getting a blue marbl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olution: There are 8 blue marbles. Therefore, the number of favorable outcomes = 8. There are a total of 20 marbles. Therefore, the number of total outcomes = 20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 = 8/20 which can be expressed as a fraction 2/5, a ratio 2:5, a percentage 40%, or a decimal 0.4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you have a herd of 200 beef cows. This summer you are using the following bul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3 sons of Almight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PowerHo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sons of BeefMak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1 son of TBon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Predict the probability that a calf next spring will be sired by a son of PowerHous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view the formula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(event) = number of favorable outcomes/number of total outcome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nd the total number of outcom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8 in this example (3+2+2+1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nd the total number of favorable outcomes (son of PowerHouse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2 in this exampl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8:09:53Z</dcterms:modified>
  <cp:revision>21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74733548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